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056-C5FD-4D12-8951-E4A176DD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053-E104-4A40-AF92-90EEC969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B40-3AFC-4335-A5ED-1BE86B7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CFD-EFBE-427F-8B5E-C589AFC4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1D3-C4A9-4206-A6D0-D0CC59CB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C4E-8F7A-4394-8CAE-92C5DD89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1A1-6021-4D15-9F1A-2AFABB62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556-3304-4DD1-9CE0-01EDDC8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3A8-B706-4467-8094-A7FBE73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2CE-552F-4663-9C45-9D5CBB9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DF1-A344-4FC2-8CBE-6EB0816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29A-54E7-468E-BF34-A77F9EE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D1FA-9780-4CD6-954C-3098931D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6386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9528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7150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124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42670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18840" y="6137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1:15:30Z</dcterms:created>
  <dc:creator>Szalayné Tahy Zsuzsa</dc:creator>
  <dc:description/>
  <dc:language>en-US</dc:language>
  <cp:lastModifiedBy>Szalayné Tahy Zsuzsa</cp:lastModifiedBy>
  <dcterms:modified xsi:type="dcterms:W3CDTF">2002-12-15T11:22:29Z</dcterms:modified>
  <cp:revision>1</cp:revision>
  <dc:subject/>
  <dc:title>Nincs diacím</dc:title>
</cp:coreProperties>
</file>