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2E2-2AEF-44E0-B804-40856C32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C6B-1412-4FB1-87AB-ABBE73C3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84D-DCEE-4C52-AFE7-9CD43050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7BA-E7B7-4B75-A514-B24F2660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D65F-E23C-499E-A9B1-E07077F2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244-A3F9-4736-B8C2-216720FD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BCA-A25B-43DE-BAF1-D0E00542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6C7-8DB6-4FAB-ADD1-C24171CF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D39-B694-4EA5-82A7-961AF7FD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787-270D-4D92-B637-512B4875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2CB-46BF-4419-BDA3-B75EB5EA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B0B-943D-4CF8-8997-D683CCBA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B464-95B0-417B-BE23-881EABFF7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6386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49528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42670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57150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31240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50292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3581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42670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18840" y="613728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zsgázó N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1:15:30Z</dcterms:created>
  <dc:creator>Szalayné Tahy Zsuzsa</dc:creator>
  <dc:description/>
  <dc:language>en-US</dc:language>
  <cp:lastModifiedBy>Szalayné Tahy Zsuzsa</cp:lastModifiedBy>
  <dcterms:modified xsi:type="dcterms:W3CDTF">2002-12-15T11:22:29Z</dcterms:modified>
  <cp:revision>1</cp:revision>
  <dc:subject/>
  <dc:title>Nincs diacím</dc:title>
</cp:coreProperties>
</file>