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3A6-9CE3-4B70-9AC7-8BF016C9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951-3193-409A-BE80-C0FCFC61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3F5-0EA1-44A6-85FA-1D66316D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A4D-8C28-4080-A6FE-B560764C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280-1BC9-4C70-AB19-B83AD1BC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BE0-9DFD-4961-96C3-07D96FCD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3E3-653B-4040-B9BA-BD465CF6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42E-4BF0-40BE-B8D1-2E9F769E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131-B30C-4DC6-932F-064BAAAB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1C3-4060-4AC1-815A-7FD8E249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7D4-E191-4886-820E-701EC01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C4C-A8C2-4677-B53A-60F44316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E832-25BD-4084-8252-5E3635D3B87B}" type="slidenum">
              <a:rPr b="0" lang="hu-HU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0120" y="609120"/>
            <a:ext cx="776772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99"/>
                </a:solidFill>
                <a:latin typeface="Comic Sans MS"/>
              </a:rPr>
              <a:t>Hangszerek</a:t>
            </a:r>
            <a:endParaRPr b="0" lang="en-US" sz="8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7120" y="1371600"/>
            <a:ext cx="6093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120" y="2819160"/>
            <a:ext cx="776772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Zongora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Gitá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rot="21159600">
            <a:off x="0" y="-3240"/>
            <a:ext cx="8609040" cy="2440440"/>
          </a:xfrm>
          <a:prstGeom prst="irregularSeal2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3429000" y="2895480"/>
            <a:ext cx="609480" cy="454320"/>
          </a:xfrm>
          <a:custGeom>
            <a:avLst/>
            <a:gdLst>
              <a:gd name="textAreaLeft" fmla="*/ 29160 w 609480"/>
              <a:gd name="textAreaRight" fmla="*/ 580320 w 609480"/>
              <a:gd name="textAreaTop" fmla="*/ 29160 h 454320"/>
              <a:gd name="textAreaBottom" fmla="*/ 425160 h 454320"/>
            </a:gdLst>
            <a:ahLst/>
            <a:rect l="textAreaLeft" t="textAreaTop" r="textAreaRight" b="textAreaBottom"/>
            <a:pathLst>
              <a:path w="28971" h="21600">
                <a:moveTo>
                  <a:pt x="0" y="0"/>
                </a:moveTo>
                <a:lnTo>
                  <a:pt x="28971" y="0"/>
                </a:lnTo>
                <a:lnTo>
                  <a:pt x="28971" y="21600"/>
                </a:lnTo>
                <a:lnTo>
                  <a:pt x="0" y="21600"/>
                </a:lnTo>
                <a:close/>
              </a:path>
              <a:path fill="lightenLess" w="28971" h="21600">
                <a:moveTo>
                  <a:pt x="0" y="0"/>
                </a:moveTo>
                <a:lnTo>
                  <a:pt x="28971" y="0"/>
                </a:lnTo>
                <a:lnTo>
                  <a:pt x="27571" y="1400"/>
                </a:lnTo>
                <a:lnTo>
                  <a:pt x="1400" y="1400"/>
                </a:lnTo>
                <a:close/>
              </a:path>
              <a:path fill="darken" w="28971" h="21600">
                <a:moveTo>
                  <a:pt x="28971" y="0"/>
                </a:moveTo>
                <a:lnTo>
                  <a:pt x="28971" y="21600"/>
                </a:lnTo>
                <a:lnTo>
                  <a:pt x="27571" y="20200"/>
                </a:lnTo>
                <a:lnTo>
                  <a:pt x="27571" y="1400"/>
                </a:lnTo>
                <a:close/>
              </a:path>
              <a:path fill="darkenLess" w="28971" h="21600">
                <a:moveTo>
                  <a:pt x="28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71" y="20200"/>
                </a:lnTo>
                <a:close/>
              </a:path>
              <a:path fill="lighten" w="28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71" h="21600">
                <a:moveTo>
                  <a:pt x="144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971" h="21600">
                <a:moveTo>
                  <a:pt x="15591" y="14281"/>
                </a:moveTo>
                <a:lnTo>
                  <a:pt x="15591" y="12323"/>
                </a:lnTo>
                <a:cubicBezTo>
                  <a:pt x="15591" y="11496"/>
                  <a:pt x="15922" y="10800"/>
                  <a:pt x="16522" y="10800"/>
                </a:cubicBezTo>
                <a:cubicBezTo>
                  <a:pt x="17654" y="10800"/>
                  <a:pt x="18550" y="9434"/>
                  <a:pt x="18550" y="7849"/>
                </a:cubicBezTo>
                <a:cubicBezTo>
                  <a:pt x="18550" y="5534"/>
                  <a:pt x="16696" y="3794"/>
                  <a:pt x="14486" y="3794"/>
                </a:cubicBezTo>
                <a:cubicBezTo>
                  <a:pt x="12275" y="3794"/>
                  <a:pt x="10604" y="5534"/>
                  <a:pt x="10604" y="7849"/>
                </a:cubicBezTo>
                <a:lnTo>
                  <a:pt x="12458" y="7849"/>
                </a:lnTo>
                <a:cubicBezTo>
                  <a:pt x="12458" y="6709"/>
                  <a:pt x="13380" y="5821"/>
                  <a:pt x="14486" y="5821"/>
                </a:cubicBezTo>
                <a:cubicBezTo>
                  <a:pt x="15591" y="5821"/>
                  <a:pt x="16522" y="6709"/>
                  <a:pt x="16522" y="7849"/>
                </a:cubicBezTo>
                <a:cubicBezTo>
                  <a:pt x="16522" y="8589"/>
                  <a:pt x="16052" y="9320"/>
                  <a:pt x="15591" y="9320"/>
                </a:cubicBezTo>
                <a:cubicBezTo>
                  <a:pt x="14486" y="9320"/>
                  <a:pt x="13380" y="10800"/>
                  <a:pt x="13380" y="12323"/>
                </a:cubicBezTo>
                <a:lnTo>
                  <a:pt x="13380" y="14281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3429000" y="3505320"/>
            <a:ext cx="609480" cy="453960"/>
          </a:xfrm>
          <a:custGeom>
            <a:avLst/>
            <a:gdLst>
              <a:gd name="textAreaLeft" fmla="*/ 29160 w 609480"/>
              <a:gd name="textAreaRight" fmla="*/ 580320 w 609480"/>
              <a:gd name="textAreaTop" fmla="*/ 29160 h 453960"/>
              <a:gd name="textAreaBottom" fmla="*/ 424800 h 453960"/>
            </a:gdLst>
            <a:ahLst/>
            <a:rect l="textAreaLeft" t="textAreaTop" r="textAreaRight" b="textAreaBottom"/>
            <a:pathLst>
              <a:path w="28994" h="21600">
                <a:moveTo>
                  <a:pt x="0" y="0"/>
                </a:moveTo>
                <a:lnTo>
                  <a:pt x="28994" y="0"/>
                </a:lnTo>
                <a:lnTo>
                  <a:pt x="28994" y="21600"/>
                </a:lnTo>
                <a:lnTo>
                  <a:pt x="0" y="21600"/>
                </a:lnTo>
                <a:close/>
              </a:path>
              <a:path fill="lightenLess" w="28994" h="21600">
                <a:moveTo>
                  <a:pt x="0" y="0"/>
                </a:moveTo>
                <a:lnTo>
                  <a:pt x="28994" y="0"/>
                </a:lnTo>
                <a:lnTo>
                  <a:pt x="27594" y="1400"/>
                </a:lnTo>
                <a:lnTo>
                  <a:pt x="1400" y="1400"/>
                </a:lnTo>
                <a:close/>
              </a:path>
              <a:path fill="darken" w="28994" h="21600">
                <a:moveTo>
                  <a:pt x="28994" y="0"/>
                </a:moveTo>
                <a:lnTo>
                  <a:pt x="28994" y="21600"/>
                </a:lnTo>
                <a:lnTo>
                  <a:pt x="27594" y="20200"/>
                </a:lnTo>
                <a:lnTo>
                  <a:pt x="27594" y="1400"/>
                </a:lnTo>
                <a:close/>
              </a:path>
              <a:path fill="darkenLess" w="28994" h="21600">
                <a:moveTo>
                  <a:pt x="28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4" y="20200"/>
                </a:lnTo>
                <a:close/>
              </a:path>
              <a:path fill="lighten" w="28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4" h="21600">
                <a:moveTo>
                  <a:pt x="144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994" h="21600">
                <a:moveTo>
                  <a:pt x="15602" y="14281"/>
                </a:moveTo>
                <a:lnTo>
                  <a:pt x="15602" y="12323"/>
                </a:lnTo>
                <a:cubicBezTo>
                  <a:pt x="15602" y="11496"/>
                  <a:pt x="15933" y="10800"/>
                  <a:pt x="16534" y="10800"/>
                </a:cubicBezTo>
                <a:cubicBezTo>
                  <a:pt x="17665" y="10800"/>
                  <a:pt x="18562" y="9434"/>
                  <a:pt x="18562" y="7849"/>
                </a:cubicBezTo>
                <a:cubicBezTo>
                  <a:pt x="18562" y="5534"/>
                  <a:pt x="16708" y="3794"/>
                  <a:pt x="14497" y="3794"/>
                </a:cubicBezTo>
                <a:cubicBezTo>
                  <a:pt x="12286" y="3794"/>
                  <a:pt x="10615" y="5534"/>
                  <a:pt x="10615" y="7849"/>
                </a:cubicBezTo>
                <a:lnTo>
                  <a:pt x="12469" y="7849"/>
                </a:lnTo>
                <a:cubicBezTo>
                  <a:pt x="12469" y="6709"/>
                  <a:pt x="13392" y="5821"/>
                  <a:pt x="14497" y="5821"/>
                </a:cubicBezTo>
                <a:cubicBezTo>
                  <a:pt x="15602" y="5821"/>
                  <a:pt x="16534" y="6709"/>
                  <a:pt x="16534" y="7849"/>
                </a:cubicBezTo>
                <a:cubicBezTo>
                  <a:pt x="16534" y="8589"/>
                  <a:pt x="16064" y="9320"/>
                  <a:pt x="15602" y="9320"/>
                </a:cubicBezTo>
                <a:cubicBezTo>
                  <a:pt x="14497" y="9320"/>
                  <a:pt x="13392" y="10800"/>
                  <a:pt x="13392" y="12323"/>
                </a:cubicBezTo>
                <a:lnTo>
                  <a:pt x="13392" y="14281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zongor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38080" y="2057400"/>
          <a:ext cx="7620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620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362320" y="0"/>
            <a:ext cx="4724280" cy="2209680"/>
          </a:xfrm>
          <a:prstGeom prst="irregularSeal2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advTm="2000">
    <p:randomBa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zongora pozitív tulajdonsága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kell vinni az órákra, ezért nem felejthetjük otthon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kell minden óra előtt újrahangolni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héz ellopni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Remek pakolófelület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esik az ember lábára (szerencsés esetben)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75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15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75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125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75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zongora negatív tulajdonsága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Meglehetősen nehéz mozgatni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lehet negyedhangokat játszani rajta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Sűrűn kell takarítani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Képtelenség rajzolni rá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ad tejet reggel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3794"/>
                </a:moveTo>
                <a:lnTo>
                  <a:pt x="22162" y="10800"/>
                </a:lnTo>
                <a:lnTo>
                  <a:pt x="8149" y="17806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7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95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65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75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15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8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gitár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305240" cy="4567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0"/>
            <a:ext cx="4343400" cy="2286000"/>
          </a:xfrm>
          <a:prstGeom prst="irregularSeal2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advTm="2000">
    <p:randomBa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gitár pozitív tulajdonsága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Mindenki saját ízlése szerint hangolhatja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Könnyű helyet csinálni vele a buszon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incsenek diszkriminálva a hangok. /fekete-fehér/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incs pedál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7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85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75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25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75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625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A gitár negatív tulajdonsága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Sokan összekeverik a hegedűvel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Könnyen szakadnak a húrok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lehet bekeretezni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vízálló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Nem bírja, ha földhöz vágjuk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75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1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75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825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75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325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75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15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75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3" dur="1" fill="hold"/>
                                  <p:tgtEl>
                                    <p:spTgt spid="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080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062680" cy="521640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é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7:02:00Z</dcterms:created>
  <dc:creator/>
  <dc:description/>
  <dc:language>en-US</dc:language>
  <cp:lastModifiedBy>Szalayné Tahy Zsuzsa</cp:lastModifiedBy>
  <dcterms:modified xsi:type="dcterms:W3CDTF">2004-05-01T11:13:46Z</dcterms:modified>
  <cp:revision>20</cp:revision>
  <dc:subject/>
  <dc:title>Hangszerek</dc:title>
</cp:coreProperties>
</file>