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BED3-DD9D-41CD-922A-02874DDBD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6316-E584-4039-A1EE-6D4497FC5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2BED-E3A0-45B2-A974-52D13ACF5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9954-3DCF-4A8B-940A-BD1AEC0CB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E491-4772-4609-91DE-6C9FCC797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DE9A-E1CD-4A8E-AD3B-202ADAF9F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0800-B474-4DC9-89F7-BCF4F65D8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A3DE-55D2-4E45-965B-13972B71D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1735-74B6-4A3D-8CA6-84A43538F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6C4E-494D-49B3-9A3B-ADCECFAE6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E9B6-5D9D-4407-A02F-44A641B56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0DF5-91D2-475A-9055-A73D82B0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C9B65-DBB2-4A49-841A-C5A1AFD2F91F}" type="slidenum">
              <a:rPr b="0" lang="hu-HU" sz="1400" spc="-1" strike="noStrike">
                <a:solidFill>
                  <a:srgbClr val="ffff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90120" y="609120"/>
            <a:ext cx="776772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99"/>
                </a:solidFill>
                <a:latin typeface="Comic Sans MS"/>
              </a:rPr>
              <a:t>Hangszerek</a:t>
            </a:r>
            <a:endParaRPr b="0" lang="en-US" sz="8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7120" y="1371600"/>
            <a:ext cx="609300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0120" y="2819160"/>
            <a:ext cx="7767720" cy="32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Wingdings" charset="2"/>
              <a:buChar char="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Comic Sans MS"/>
              </a:rPr>
              <a:t>Zongora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Wingdings" charset="2"/>
              <a:buChar char="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Comic Sans MS"/>
              </a:rPr>
              <a:t>Gitár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H="1" rot="21159600">
            <a:off x="0" y="-3240"/>
            <a:ext cx="8609040" cy="2440440"/>
          </a:xfrm>
          <a:prstGeom prst="irregularSeal2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5" name="">
            <a:hlinkClick r:id="rId1" action="ppaction://hlinksldjump"/>
          </p:cNvPr>
          <p:cNvSpPr/>
          <p:nvPr/>
        </p:nvSpPr>
        <p:spPr>
          <a:xfrm>
            <a:off x="3429000" y="2895480"/>
            <a:ext cx="609480" cy="454320"/>
          </a:xfrm>
          <a:custGeom>
            <a:avLst/>
            <a:gdLst>
              <a:gd name="textAreaLeft" fmla="*/ 29160 w 609480"/>
              <a:gd name="textAreaRight" fmla="*/ 580320 w 609480"/>
              <a:gd name="textAreaTop" fmla="*/ 29160 h 454320"/>
              <a:gd name="textAreaBottom" fmla="*/ 425160 h 454320"/>
            </a:gdLst>
            <a:ahLst/>
            <a:rect l="textAreaLeft" t="textAreaTop" r="textAreaRight" b="textAreaBottom"/>
            <a:pathLst>
              <a:path w="28971" h="21600">
                <a:moveTo>
                  <a:pt x="0" y="0"/>
                </a:moveTo>
                <a:lnTo>
                  <a:pt x="28971" y="0"/>
                </a:lnTo>
                <a:lnTo>
                  <a:pt x="28971" y="21600"/>
                </a:lnTo>
                <a:lnTo>
                  <a:pt x="0" y="21600"/>
                </a:lnTo>
                <a:close/>
              </a:path>
              <a:path fill="lightenLess" w="28971" h="21600">
                <a:moveTo>
                  <a:pt x="0" y="0"/>
                </a:moveTo>
                <a:lnTo>
                  <a:pt x="28971" y="0"/>
                </a:lnTo>
                <a:lnTo>
                  <a:pt x="27571" y="1400"/>
                </a:lnTo>
                <a:lnTo>
                  <a:pt x="1400" y="1400"/>
                </a:lnTo>
                <a:close/>
              </a:path>
              <a:path fill="darken" w="28971" h="21600">
                <a:moveTo>
                  <a:pt x="28971" y="0"/>
                </a:moveTo>
                <a:lnTo>
                  <a:pt x="28971" y="21600"/>
                </a:lnTo>
                <a:lnTo>
                  <a:pt x="27571" y="20200"/>
                </a:lnTo>
                <a:lnTo>
                  <a:pt x="27571" y="1400"/>
                </a:lnTo>
                <a:close/>
              </a:path>
              <a:path fill="darkenLess" w="28971" h="21600">
                <a:moveTo>
                  <a:pt x="289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71" y="20200"/>
                </a:lnTo>
                <a:close/>
              </a:path>
              <a:path fill="lighten" w="289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71" h="21600">
                <a:moveTo>
                  <a:pt x="1448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971" h="21600">
                <a:moveTo>
                  <a:pt x="15591" y="14281"/>
                </a:moveTo>
                <a:lnTo>
                  <a:pt x="15591" y="12323"/>
                </a:lnTo>
                <a:cubicBezTo>
                  <a:pt x="15591" y="11496"/>
                  <a:pt x="15922" y="10800"/>
                  <a:pt x="16522" y="10800"/>
                </a:cubicBezTo>
                <a:cubicBezTo>
                  <a:pt x="17654" y="10800"/>
                  <a:pt x="18550" y="9434"/>
                  <a:pt x="18550" y="7849"/>
                </a:cubicBezTo>
                <a:cubicBezTo>
                  <a:pt x="18550" y="5534"/>
                  <a:pt x="16696" y="3794"/>
                  <a:pt x="14486" y="3794"/>
                </a:cubicBezTo>
                <a:cubicBezTo>
                  <a:pt x="12275" y="3794"/>
                  <a:pt x="10604" y="5534"/>
                  <a:pt x="10604" y="7849"/>
                </a:cubicBezTo>
                <a:lnTo>
                  <a:pt x="12458" y="7849"/>
                </a:lnTo>
                <a:cubicBezTo>
                  <a:pt x="12458" y="6709"/>
                  <a:pt x="13380" y="5821"/>
                  <a:pt x="14486" y="5821"/>
                </a:cubicBezTo>
                <a:cubicBezTo>
                  <a:pt x="15591" y="5821"/>
                  <a:pt x="16522" y="6709"/>
                  <a:pt x="16522" y="7849"/>
                </a:cubicBezTo>
                <a:cubicBezTo>
                  <a:pt x="16522" y="8589"/>
                  <a:pt x="16052" y="9320"/>
                  <a:pt x="15591" y="9320"/>
                </a:cubicBezTo>
                <a:cubicBezTo>
                  <a:pt x="14486" y="9320"/>
                  <a:pt x="13380" y="10800"/>
                  <a:pt x="13380" y="12323"/>
                </a:cubicBezTo>
                <a:lnTo>
                  <a:pt x="13380" y="14281"/>
                </a:lnTo>
                <a:close/>
              </a:path>
            </a:pathLst>
          </a:custGeom>
          <a:solidFill>
            <a:srgbClr val="003366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6" name="">
            <a:hlinkClick r:id="rId2" action="ppaction://hlinksldjump"/>
          </p:cNvPr>
          <p:cNvSpPr/>
          <p:nvPr/>
        </p:nvSpPr>
        <p:spPr>
          <a:xfrm>
            <a:off x="3429000" y="3505320"/>
            <a:ext cx="609480" cy="453960"/>
          </a:xfrm>
          <a:custGeom>
            <a:avLst/>
            <a:gdLst>
              <a:gd name="textAreaLeft" fmla="*/ 29160 w 609480"/>
              <a:gd name="textAreaRight" fmla="*/ 580320 w 609480"/>
              <a:gd name="textAreaTop" fmla="*/ 29160 h 453960"/>
              <a:gd name="textAreaBottom" fmla="*/ 424800 h 453960"/>
            </a:gdLst>
            <a:ahLst/>
            <a:rect l="textAreaLeft" t="textAreaTop" r="textAreaRight" b="textAreaBottom"/>
            <a:pathLst>
              <a:path w="28994" h="21600">
                <a:moveTo>
                  <a:pt x="0" y="0"/>
                </a:moveTo>
                <a:lnTo>
                  <a:pt x="28994" y="0"/>
                </a:lnTo>
                <a:lnTo>
                  <a:pt x="28994" y="21600"/>
                </a:lnTo>
                <a:lnTo>
                  <a:pt x="0" y="21600"/>
                </a:lnTo>
                <a:close/>
              </a:path>
              <a:path fill="lightenLess" w="28994" h="21600">
                <a:moveTo>
                  <a:pt x="0" y="0"/>
                </a:moveTo>
                <a:lnTo>
                  <a:pt x="28994" y="0"/>
                </a:lnTo>
                <a:lnTo>
                  <a:pt x="27594" y="1400"/>
                </a:lnTo>
                <a:lnTo>
                  <a:pt x="1400" y="1400"/>
                </a:lnTo>
                <a:close/>
              </a:path>
              <a:path fill="darken" w="28994" h="21600">
                <a:moveTo>
                  <a:pt x="28994" y="0"/>
                </a:moveTo>
                <a:lnTo>
                  <a:pt x="28994" y="21600"/>
                </a:lnTo>
                <a:lnTo>
                  <a:pt x="27594" y="20200"/>
                </a:lnTo>
                <a:lnTo>
                  <a:pt x="27594" y="1400"/>
                </a:lnTo>
                <a:close/>
              </a:path>
              <a:path fill="darkenLess" w="28994" h="21600">
                <a:moveTo>
                  <a:pt x="28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94" y="20200"/>
                </a:lnTo>
                <a:close/>
              </a:path>
              <a:path fill="lighten" w="28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94" h="21600">
                <a:moveTo>
                  <a:pt x="1449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994" h="21600">
                <a:moveTo>
                  <a:pt x="15602" y="14281"/>
                </a:moveTo>
                <a:lnTo>
                  <a:pt x="15602" y="12323"/>
                </a:lnTo>
                <a:cubicBezTo>
                  <a:pt x="15602" y="11496"/>
                  <a:pt x="15933" y="10800"/>
                  <a:pt x="16534" y="10800"/>
                </a:cubicBezTo>
                <a:cubicBezTo>
                  <a:pt x="17665" y="10800"/>
                  <a:pt x="18562" y="9434"/>
                  <a:pt x="18562" y="7849"/>
                </a:cubicBezTo>
                <a:cubicBezTo>
                  <a:pt x="18562" y="5534"/>
                  <a:pt x="16708" y="3794"/>
                  <a:pt x="14497" y="3794"/>
                </a:cubicBezTo>
                <a:cubicBezTo>
                  <a:pt x="12286" y="3794"/>
                  <a:pt x="10615" y="5534"/>
                  <a:pt x="10615" y="7849"/>
                </a:cubicBezTo>
                <a:lnTo>
                  <a:pt x="12469" y="7849"/>
                </a:lnTo>
                <a:cubicBezTo>
                  <a:pt x="12469" y="6709"/>
                  <a:pt x="13392" y="5821"/>
                  <a:pt x="14497" y="5821"/>
                </a:cubicBezTo>
                <a:cubicBezTo>
                  <a:pt x="15602" y="5821"/>
                  <a:pt x="16534" y="6709"/>
                  <a:pt x="16534" y="7849"/>
                </a:cubicBezTo>
                <a:cubicBezTo>
                  <a:pt x="16534" y="8589"/>
                  <a:pt x="16064" y="9320"/>
                  <a:pt x="15602" y="9320"/>
                </a:cubicBezTo>
                <a:cubicBezTo>
                  <a:pt x="14497" y="9320"/>
                  <a:pt x="13392" y="10800"/>
                  <a:pt x="13392" y="12323"/>
                </a:cubicBezTo>
                <a:lnTo>
                  <a:pt x="13392" y="14281"/>
                </a:lnTo>
                <a:close/>
              </a:path>
            </a:pathLst>
          </a:custGeom>
          <a:solidFill>
            <a:srgbClr val="003366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Comic Sans MS"/>
              </a:rPr>
              <a:t>A zongora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838080" y="2057400"/>
          <a:ext cx="762012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057400"/>
                    <a:ext cx="762012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362320" y="0"/>
            <a:ext cx="4724280" cy="2209680"/>
          </a:xfrm>
          <a:prstGeom prst="irregularSeal2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 advTm="2000">
    <p:randomBar dir="horz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Comic Sans MS"/>
              </a:rPr>
              <a:t>A zongora pozitív tulajdonságai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Comic Sans MS"/>
              </a:rPr>
              <a:t>Nem kell vinni az órákra, ezért nem felejthetjük otthon.</a:t>
            </a:r>
            <a:endParaRPr b="0" lang="en-US" sz="3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Comic Sans MS"/>
              </a:rPr>
              <a:t>Nem kell minden óra előtt újrahangolni.</a:t>
            </a:r>
            <a:endParaRPr b="0" lang="en-US" sz="3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Comic Sans MS"/>
              </a:rPr>
              <a:t>Nehéz ellopni.</a:t>
            </a:r>
            <a:endParaRPr b="0" lang="en-US" sz="3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Comic Sans MS"/>
              </a:rPr>
              <a:t>Remek pakolófelület.</a:t>
            </a:r>
            <a:endParaRPr b="0" lang="en-US" sz="3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Comic Sans MS"/>
              </a:rPr>
              <a:t>Nem esik az ember lábára (szerencsés esetben).</a:t>
            </a:r>
            <a:endParaRPr b="0" lang="en-US" sz="3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3" name="">
            <a:hlinkClick r:id="" action="ppaction://hlinkshowjump?jump=nextslide"/>
          </p:cNvPr>
          <p:cNvSpPr/>
          <p:nvPr/>
        </p:nvSpPr>
        <p:spPr>
          <a:xfrm>
            <a:off x="8458200" y="62485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3794"/>
                </a:moveTo>
                <a:lnTo>
                  <a:pt x="19158" y="10800"/>
                </a:lnTo>
                <a:lnTo>
                  <a:pt x="5145" y="17806"/>
                </a:lnTo>
                <a:close/>
              </a:path>
            </a:pathLst>
          </a:custGeom>
          <a:solidFill>
            <a:srgbClr val="003366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cover dir="l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75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6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75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8150"/>
                            </p:stCondLst>
                            <p:childTnLst>
                              <p:par>
                                <p:cTn id="6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75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125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75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255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75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Comic Sans MS"/>
              </a:rPr>
              <a:t>A zongora negatív tulajdonságai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Comic Sans MS"/>
              </a:rPr>
              <a:t>Meglehetősen nehéz mozgatni.</a:t>
            </a:r>
            <a:endParaRPr b="0" lang="en-US" sz="3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Comic Sans MS"/>
              </a:rPr>
              <a:t>Nem lehet negyedhangokat játszani rajta.</a:t>
            </a:r>
            <a:endParaRPr b="0" lang="en-US" sz="3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Comic Sans MS"/>
              </a:rPr>
              <a:t>Sűrűn kell takarítani.</a:t>
            </a:r>
            <a:endParaRPr b="0" lang="en-US" sz="3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Comic Sans MS"/>
              </a:rPr>
              <a:t>Képtelenség rajzolni rá.</a:t>
            </a:r>
            <a:endParaRPr b="0" lang="en-US" sz="3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Comic Sans MS"/>
              </a:rPr>
              <a:t>Nem ad tejet reggel.</a:t>
            </a:r>
            <a:endParaRPr b="0" lang="en-US" sz="3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6" name="">
            <a:hlinkClick r:id="" action="ppaction://hlinkshowjump?jump=nextslide"/>
          </p:cNvPr>
          <p:cNvSpPr/>
          <p:nvPr/>
        </p:nvSpPr>
        <p:spPr>
          <a:xfrm>
            <a:off x="8172360" y="6165720"/>
            <a:ext cx="971640" cy="692280"/>
          </a:xfrm>
          <a:custGeom>
            <a:avLst/>
            <a:gdLst>
              <a:gd name="textAreaLeft" fmla="*/ 44640 w 971640"/>
              <a:gd name="textAreaRight" fmla="*/ 927000 w 97164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30312" h="21600">
                <a:moveTo>
                  <a:pt x="0" y="0"/>
                </a:moveTo>
                <a:lnTo>
                  <a:pt x="30312" y="0"/>
                </a:lnTo>
                <a:lnTo>
                  <a:pt x="30312" y="21600"/>
                </a:lnTo>
                <a:lnTo>
                  <a:pt x="0" y="21600"/>
                </a:lnTo>
                <a:close/>
              </a:path>
              <a:path fill="lightenLess" w="30312" h="21600">
                <a:moveTo>
                  <a:pt x="0" y="0"/>
                </a:moveTo>
                <a:lnTo>
                  <a:pt x="30312" y="0"/>
                </a:lnTo>
                <a:lnTo>
                  <a:pt x="28912" y="1400"/>
                </a:lnTo>
                <a:lnTo>
                  <a:pt x="1400" y="1400"/>
                </a:lnTo>
                <a:close/>
              </a:path>
              <a:path fill="darken" w="30312" h="21600">
                <a:moveTo>
                  <a:pt x="30312" y="0"/>
                </a:moveTo>
                <a:lnTo>
                  <a:pt x="30312" y="21600"/>
                </a:lnTo>
                <a:lnTo>
                  <a:pt x="28912" y="20200"/>
                </a:lnTo>
                <a:lnTo>
                  <a:pt x="28912" y="1400"/>
                </a:lnTo>
                <a:close/>
              </a:path>
              <a:path fill="darkenLess" w="30312" h="21600">
                <a:moveTo>
                  <a:pt x="303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12" y="20200"/>
                </a:lnTo>
                <a:close/>
              </a:path>
              <a:path fill="lighten" w="303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312" h="21600">
                <a:moveTo>
                  <a:pt x="8149" y="3794"/>
                </a:moveTo>
                <a:lnTo>
                  <a:pt x="22162" y="10800"/>
                </a:lnTo>
                <a:lnTo>
                  <a:pt x="8149" y="17806"/>
                </a:lnTo>
                <a:close/>
              </a:path>
            </a:pathLst>
          </a:custGeom>
          <a:solidFill>
            <a:srgbClr val="003366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cover dir="ru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75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950"/>
                            </p:stCondLst>
                            <p:childTnLst>
                              <p:par>
                                <p:cTn id="8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75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3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5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0808"/>
                                </p:to>
                              </p:animCl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6650"/>
                            </p:stCondLst>
                            <p:childTnLst>
                              <p:par>
                                <p:cTn id="8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75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5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0808"/>
                                </p:to>
                              </p:animCl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9150"/>
                            </p:stCondLst>
                            <p:childTnLst>
                              <p:par>
                                <p:cTn id="9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75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3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5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0808"/>
                                </p:to>
                              </p:animCl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1800"/>
                            </p:stCondLst>
                            <p:childTnLst>
                              <p:par>
                                <p:cTn id="9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75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5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080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1" dur="1" fill="hold"/>
                                  <p:tgtEl>
                                    <p:spTgt spid="5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080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Comic Sans MS"/>
              </a:rPr>
              <a:t>A gitár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90920" y="1981080"/>
            <a:ext cx="4305240" cy="4567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90920" y="0"/>
            <a:ext cx="4343400" cy="2286000"/>
          </a:xfrm>
          <a:prstGeom prst="irregularSeal2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 advTm="2000">
    <p:randomBar dir="horz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Comic Sans MS"/>
              </a:rPr>
              <a:t>A gitár pozitív tulajdonságai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Comic Sans MS"/>
              </a:rPr>
              <a:t>Mindenki saját ízlése szerint hangolhatja.</a:t>
            </a:r>
            <a:endParaRPr b="0" lang="en-US" sz="3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Comic Sans MS"/>
              </a:rPr>
              <a:t>Könnyű helyet csinálni vele a buszon.</a:t>
            </a:r>
            <a:endParaRPr b="0" lang="en-US" sz="3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Comic Sans MS"/>
              </a:rPr>
              <a:t>Nincsenek diszkriminálva a hangok. /fekete-fehér/</a:t>
            </a:r>
            <a:endParaRPr b="0" lang="en-US" sz="3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Comic Sans MS"/>
              </a:rPr>
              <a:t>Nincs pedál.</a:t>
            </a:r>
            <a:endParaRPr b="0" lang="en-US" sz="3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2" name="">
            <a:hlinkClick r:id="" action="ppaction://hlinkshowjump?jump=nextslide"/>
          </p:cNvPr>
          <p:cNvSpPr/>
          <p:nvPr/>
        </p:nvSpPr>
        <p:spPr>
          <a:xfrm>
            <a:off x="8458200" y="62485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3794"/>
                </a:moveTo>
                <a:lnTo>
                  <a:pt x="19158" y="10800"/>
                </a:lnTo>
                <a:lnTo>
                  <a:pt x="5145" y="17806"/>
                </a:lnTo>
                <a:close/>
              </a:path>
            </a:pathLst>
          </a:custGeom>
          <a:solidFill>
            <a:srgbClr val="003366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cover dir="ld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75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85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75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7250"/>
                            </p:stCondLst>
                            <p:childTnLst>
                              <p:par>
                                <p:cTn id="13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75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1625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75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Comic Sans MS"/>
              </a:rPr>
              <a:t>A gitár negatív tulajdonságai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Comic Sans MS"/>
              </a:rPr>
              <a:t>Sokan összekeverik a hegedűvel.</a:t>
            </a:r>
            <a:endParaRPr b="0" lang="en-US" sz="3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Comic Sans MS"/>
              </a:rPr>
              <a:t>Könnyen szakadnak a húrok.</a:t>
            </a:r>
            <a:endParaRPr b="0" lang="en-US" sz="3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Comic Sans MS"/>
              </a:rPr>
              <a:t>Nem lehet bekeretezni.</a:t>
            </a:r>
            <a:endParaRPr b="0" lang="en-US" sz="3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Comic Sans MS"/>
              </a:rPr>
              <a:t>Nem vízálló.</a:t>
            </a:r>
            <a:endParaRPr b="0" lang="en-US" sz="3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Comic Sans MS"/>
              </a:rPr>
              <a:t>Nem bírja, ha földhöz vágjuk.</a:t>
            </a:r>
            <a:endParaRPr b="0" lang="en-US" sz="3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5" name="">
            <a:hlinkClick r:id="" action="ppaction://hlinkshowjump?jump=nextslide"/>
          </p:cNvPr>
          <p:cNvSpPr/>
          <p:nvPr/>
        </p:nvSpPr>
        <p:spPr>
          <a:xfrm>
            <a:off x="8534520" y="6248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3366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cover dir="ru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75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100"/>
                            </p:stCondLst>
                            <p:childTnLst>
                              <p:par>
                                <p:cTn id="15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75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5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6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0808"/>
                                </p:to>
                              </p:animCl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825"/>
                            </p:stCondLst>
                            <p:childTnLst>
                              <p:par>
                                <p:cTn id="15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75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0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6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0808"/>
                                </p:to>
                              </p:animCl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8325"/>
                            </p:stCondLst>
                            <p:childTnLst>
                              <p:par>
                                <p:cTn id="16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75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5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6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0808"/>
                                </p:to>
                              </p:animCl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150"/>
                            </p:stCondLst>
                            <p:childTnLst>
                              <p:par>
                                <p:cTn id="16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75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0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6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080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3" dur="1" fill="hold"/>
                                  <p:tgtEl>
                                    <p:spTgt spid="6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080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752480" y="762120"/>
            <a:ext cx="5062680" cy="5216400"/>
          </a:xfrm>
          <a:prstGeom prst="rect">
            <a:avLst/>
          </a:prstGeom>
          <a:ln w="0">
            <a:noFill/>
          </a:ln>
        </p:spPr>
      </p:pic>
      <p:sp>
        <p:nvSpPr>
          <p:cNvPr id="67" name="">
            <a:hlinkClick r:id="" action="ppaction://hlinkshowjump?jump=firstslide"/>
          </p:cNvPr>
          <p:cNvSpPr/>
          <p:nvPr/>
        </p:nvSpPr>
        <p:spPr>
          <a:xfrm>
            <a:off x="8534520" y="6248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3366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Vég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17:02:00Z</dcterms:created>
  <dc:creator/>
  <dc:description/>
  <dc:language>en-US</dc:language>
  <cp:lastModifiedBy>Szalayné Tahy Zsuzsa</cp:lastModifiedBy>
  <dcterms:modified xsi:type="dcterms:W3CDTF">2004-05-01T11:13:46Z</dcterms:modified>
  <cp:revision>20</cp:revision>
  <dc:subject/>
  <dc:title>Hangszerek</dc:title>
</cp:coreProperties>
</file>