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BB7-7DEA-480A-B98C-7DDAEF38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659-F7B9-4347-B08D-E3C0DDD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AB7-CF43-41C5-8208-57834EF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8B3-6BA8-457D-B5A7-DF0DD005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31F-0FBF-403C-AA4E-43F719E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C40-D4F0-4C10-9388-C0ABA5C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F0F-D6E0-41BA-9EE5-7F0FA0FB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2B4-305C-466B-8856-4A558B8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F9A-ECEB-421E-A1E9-01D3BC7B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0A0-1B91-4D29-9120-A7CE487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48C-4713-43FE-B8B7-E6F60B1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3BE-58A9-4700-BF16-63BE970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592-CBB2-472A-9BD9-06B13ED4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6386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952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7150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124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8840" y="6137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1:15:30Z</dcterms:created>
  <dc:creator>Szalayné Tahy Zsuzsa</dc:creator>
  <dc:description/>
  <dc:language>en-US</dc:language>
  <cp:lastModifiedBy>Szalayné Tahy Zsuzsa</cp:lastModifiedBy>
  <dcterms:modified xsi:type="dcterms:W3CDTF">2002-12-15T11:22:29Z</dcterms:modified>
  <cp:revision>1</cp:revision>
  <dc:subject/>
  <dc:title>Nincs diacím</dc:title>
</cp:coreProperties>
</file>