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4E65-1BA7-4D76-B84C-0C942FC27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5097-FA36-473E-8BA7-7E771FB3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D81E-5118-496C-BCD3-23BF15E4C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A75E-FD42-4D9F-BDF5-B09B0CB7A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55FC-A283-4F42-9470-FD76A575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8B74-9D67-4E6D-9FA3-E9D1FC0E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0824-361F-41CE-92CC-FF8D215F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1FA1-1396-4E39-B9A1-5C133F17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99E7-B8BF-417E-A311-19B59AEE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81AB-89E2-4924-AA33-2D53E39C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4597-2F8F-4D85-9D3C-AD74C448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8DBC-ADD8-439C-994C-3432B548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99f8"/>
            </a:gs>
            <a:gs pos="50000">
              <a:srgbClr val="c0e4fc"/>
            </a:gs>
            <a:gs pos="100000">
              <a:srgbClr val="0e99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cb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c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cb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5c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cb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5c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cb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5c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cb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5cb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cb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cb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cb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3332-A4A5-4679-B434-B4A417C14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99f8"/>
            </a:gs>
            <a:gs pos="50000">
              <a:srgbClr val="c0e4fc"/>
            </a:gs>
            <a:gs pos="100000">
              <a:srgbClr val="0e99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20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5cbf"/>
                </a:solidFill>
                <a:latin typeface="Arial"/>
              </a:rPr>
              <a:t>Kockaház utcai</a:t>
            </a:r>
            <a:br>
              <a:rPr sz="6000"/>
            </a:br>
            <a:r>
              <a:rPr b="1" lang="en-US" sz="6000" spc="-1" strike="noStrike">
                <a:solidFill>
                  <a:srgbClr val="005cbf"/>
                </a:solidFill>
                <a:latin typeface="Arial"/>
              </a:rPr>
              <a:t>Általános Iskola és Gimnázium</a:t>
            </a:r>
            <a:endParaRPr b="0" lang="en-US" sz="6000" spc="-1" strike="noStrike">
              <a:solidFill>
                <a:srgbClr val="005cb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99f8"/>
            </a:gs>
            <a:gs pos="50000">
              <a:srgbClr val="c0e4fc"/>
            </a:gs>
            <a:gs pos="100000">
              <a:srgbClr val="0e99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cbf"/>
                </a:solidFill>
                <a:latin typeface="Arial"/>
              </a:rPr>
              <a:t>Iskolánk felépítése</a:t>
            </a:r>
            <a:endParaRPr b="0" lang="en-US" sz="44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c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99"/>
                </a:solidFill>
                <a:uFillTx/>
                <a:latin typeface="Arial"/>
                <a:hlinkClick r:id="rId1" action="ppaction://hlinksldjump"/>
              </a:rPr>
              <a:t>Általános iskolai tagozat</a:t>
            </a: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5c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99"/>
                </a:solidFill>
                <a:uFillTx/>
                <a:latin typeface="Arial"/>
                <a:hlinkClick r:id="rId2" action="ppaction://hlinksldjump"/>
              </a:rPr>
              <a:t>Középiskolai tagozat</a:t>
            </a: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endshow"/>
          </p:cNvPr>
          <p:cNvSpPr/>
          <p:nvPr/>
        </p:nvSpPr>
        <p:spPr>
          <a:xfrm>
            <a:off x="7812000" y="581508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17243" y="10800"/>
                </a:moveTo>
                <a:lnTo>
                  <a:pt x="6738" y="17806"/>
                </a:lnTo>
                <a:lnTo>
                  <a:pt x="6738" y="3794"/>
                </a:lnTo>
                <a:close/>
              </a:path>
              <a:path fill="darken" w="27488" h="21600">
                <a:moveTo>
                  <a:pt x="19088" y="3794"/>
                </a:moveTo>
                <a:lnTo>
                  <a:pt x="19088" y="17806"/>
                </a:lnTo>
                <a:lnTo>
                  <a:pt x="20751" y="17806"/>
                </a:lnTo>
                <a:lnTo>
                  <a:pt x="20751" y="3794"/>
                </a:lnTo>
                <a:close/>
              </a:path>
            </a:pathLst>
          </a:custGeom>
          <a:solidFill>
            <a:srgbClr val="0256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99f8"/>
            </a:gs>
            <a:gs pos="50000">
              <a:srgbClr val="c0e4fc"/>
            </a:gs>
            <a:gs pos="100000">
              <a:srgbClr val="0e99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cbf"/>
                </a:solidFill>
                <a:latin typeface="Arial"/>
              </a:rPr>
              <a:t>Általános Iskola</a:t>
            </a:r>
            <a:endParaRPr b="0" lang="en-US" sz="44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11280" y="2852640"/>
            <a:ext cx="42688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cbf"/>
                </a:solidFill>
                <a:latin typeface="Arial"/>
              </a:rPr>
              <a:t>Általános</a:t>
            </a:r>
            <a:endParaRPr b="0" lang="en-US" sz="3600" spc="-1" strike="noStrike">
              <a:solidFill>
                <a:srgbClr val="005cb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cbf"/>
                </a:solidFill>
                <a:latin typeface="Arial"/>
              </a:rPr>
              <a:t>Matematika</a:t>
            </a:r>
            <a:endParaRPr b="0" lang="en-US" sz="3600" spc="-1" strike="noStrike">
              <a:solidFill>
                <a:srgbClr val="005cb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cbf"/>
                </a:solidFill>
                <a:latin typeface="Arial"/>
              </a:rPr>
              <a:t>Angol</a:t>
            </a:r>
            <a:endParaRPr b="0" lang="en-US" sz="3600" spc="-1" strike="noStrike">
              <a:solidFill>
                <a:srgbClr val="005cb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7812000" y="5805360"/>
            <a:ext cx="1008000" cy="79236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7476" h="21600">
                <a:moveTo>
                  <a:pt x="0" y="0"/>
                </a:moveTo>
                <a:lnTo>
                  <a:pt x="27476" y="0"/>
                </a:lnTo>
                <a:lnTo>
                  <a:pt x="27476" y="21600"/>
                </a:lnTo>
                <a:lnTo>
                  <a:pt x="0" y="21600"/>
                </a:lnTo>
                <a:close/>
              </a:path>
              <a:path fill="lightenLess" w="27476" h="21600">
                <a:moveTo>
                  <a:pt x="0" y="0"/>
                </a:moveTo>
                <a:lnTo>
                  <a:pt x="27476" y="0"/>
                </a:lnTo>
                <a:lnTo>
                  <a:pt x="26076" y="1400"/>
                </a:lnTo>
                <a:lnTo>
                  <a:pt x="1400" y="1400"/>
                </a:lnTo>
                <a:close/>
              </a:path>
              <a:path fill="darken" w="27476" h="21600">
                <a:moveTo>
                  <a:pt x="27476" y="0"/>
                </a:moveTo>
                <a:lnTo>
                  <a:pt x="27476" y="21600"/>
                </a:lnTo>
                <a:lnTo>
                  <a:pt x="26076" y="20200"/>
                </a:lnTo>
                <a:lnTo>
                  <a:pt x="26076" y="1400"/>
                </a:lnTo>
                <a:close/>
              </a:path>
              <a:path fill="darkenLess" w="27476" h="21600">
                <a:moveTo>
                  <a:pt x="27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76" y="20200"/>
                </a:lnTo>
                <a:close/>
              </a:path>
              <a:path fill="lighten" w="27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76" h="21600">
                <a:moveTo>
                  <a:pt x="6731" y="10800"/>
                </a:moveTo>
                <a:lnTo>
                  <a:pt x="20744" y="3794"/>
                </a:lnTo>
                <a:lnTo>
                  <a:pt x="20744" y="17806"/>
                </a:lnTo>
                <a:close/>
              </a:path>
            </a:pathLst>
          </a:custGeom>
          <a:solidFill>
            <a:srgbClr val="0256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3280" y="1844640"/>
            <a:ext cx="422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cbf"/>
                </a:solidFill>
                <a:latin typeface="Arial"/>
              </a:rPr>
              <a:t>Választható osztály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99f8"/>
            </a:gs>
            <a:gs pos="50000">
              <a:srgbClr val="c0e4fc"/>
            </a:gs>
            <a:gs pos="100000">
              <a:srgbClr val="0e99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cbf"/>
                </a:solidFill>
                <a:latin typeface="Arial"/>
              </a:rPr>
              <a:t>Középiskola</a:t>
            </a:r>
            <a:endParaRPr b="0" lang="en-US" sz="44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32842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cbf"/>
                </a:solidFill>
                <a:latin typeface="Arial"/>
              </a:rPr>
              <a:t>Általános gimnázium</a:t>
            </a: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cbf"/>
                </a:solidFill>
                <a:latin typeface="Arial"/>
              </a:rPr>
              <a:t>Idegenforgalmi szakközépiskola</a:t>
            </a: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cbf"/>
                </a:solidFill>
                <a:latin typeface="Arial"/>
              </a:rPr>
              <a:t>Kereskedelmi szakközépiskola</a:t>
            </a:r>
            <a:endParaRPr b="0" lang="en-US" sz="3200" spc="-1" strike="noStrike">
              <a:solidFill>
                <a:srgbClr val="005cbf"/>
              </a:solidFill>
              <a:latin typeface="Arial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7812000" y="5805360"/>
            <a:ext cx="1008000" cy="79236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7476" h="21600">
                <a:moveTo>
                  <a:pt x="0" y="0"/>
                </a:moveTo>
                <a:lnTo>
                  <a:pt x="27476" y="0"/>
                </a:lnTo>
                <a:lnTo>
                  <a:pt x="27476" y="21600"/>
                </a:lnTo>
                <a:lnTo>
                  <a:pt x="0" y="21600"/>
                </a:lnTo>
                <a:close/>
              </a:path>
              <a:path fill="lightenLess" w="27476" h="21600">
                <a:moveTo>
                  <a:pt x="0" y="0"/>
                </a:moveTo>
                <a:lnTo>
                  <a:pt x="27476" y="0"/>
                </a:lnTo>
                <a:lnTo>
                  <a:pt x="26076" y="1400"/>
                </a:lnTo>
                <a:lnTo>
                  <a:pt x="1400" y="1400"/>
                </a:lnTo>
                <a:close/>
              </a:path>
              <a:path fill="darken" w="27476" h="21600">
                <a:moveTo>
                  <a:pt x="27476" y="0"/>
                </a:moveTo>
                <a:lnTo>
                  <a:pt x="27476" y="21600"/>
                </a:lnTo>
                <a:lnTo>
                  <a:pt x="26076" y="20200"/>
                </a:lnTo>
                <a:lnTo>
                  <a:pt x="26076" y="1400"/>
                </a:lnTo>
                <a:close/>
              </a:path>
              <a:path fill="darkenLess" w="27476" h="21600">
                <a:moveTo>
                  <a:pt x="27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76" y="20200"/>
                </a:lnTo>
                <a:close/>
              </a:path>
              <a:path fill="lighten" w="27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76" h="21600">
                <a:moveTo>
                  <a:pt x="6731" y="10800"/>
                </a:moveTo>
                <a:lnTo>
                  <a:pt x="20744" y="3794"/>
                </a:lnTo>
                <a:lnTo>
                  <a:pt x="20744" y="17806"/>
                </a:lnTo>
                <a:close/>
              </a:path>
            </a:pathLst>
          </a:custGeom>
          <a:solidFill>
            <a:srgbClr val="0256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70320" y="184464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cbf"/>
                </a:solidFill>
                <a:latin typeface="Arial"/>
              </a:rPr>
              <a:t>Választható képzés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17:52:49Z</dcterms:created>
  <dc:creator/>
  <dc:description/>
  <dc:language>en-US</dc:language>
  <cp:lastModifiedBy>Szalayné Tahy Zsuzsa</cp:lastModifiedBy>
  <dcterms:modified xsi:type="dcterms:W3CDTF">2004-05-01T08:35:44Z</dcterms:modified>
  <cp:revision>8</cp:revision>
  <dc:subject/>
  <dc:title>Iskola</dc:title>
</cp:coreProperties>
</file>