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642C-6A49-467E-83C5-A153E475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D48-71B7-4BE5-ABA3-E7E7EA21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61A-3EB8-4970-95A1-875F4FBD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D82B-71C4-43ED-B51A-8D6B8F3F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8B4E-170D-429A-9FA7-461B81AA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40D-3BD8-4101-B25A-F5D53C77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B51C-A4F5-410A-81DD-47C586EE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B15D-A06A-49FC-A4A2-2B0A7FD9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301-8F84-428E-842B-56C47DB9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E8F9-6F21-4CA2-81CD-21FFF2AC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79D-C31B-40E6-8C72-E9061C22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FCD-39CA-4D3F-98C0-ED5205EF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663C-765C-400F-9B46-E1398BFD5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6386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49528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42670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57150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31240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50292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3581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42670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581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18840" y="613728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zsgázó N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1:15:30Z</dcterms:created>
  <dc:creator>Szalayné Tahy Zsuzsa</dc:creator>
  <dc:description/>
  <dc:language>en-US</dc:language>
  <cp:lastModifiedBy>Szalayné Tahy Zsuzsa</cp:lastModifiedBy>
  <dcterms:modified xsi:type="dcterms:W3CDTF">2002-12-15T11:22:29Z</dcterms:modified>
  <cp:revision>1</cp:revision>
  <dc:subject/>
  <dc:title>Nincs diacím</dc:title>
</cp:coreProperties>
</file>