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333-C920-4799-9DA2-A90EE81A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A9E-1E77-4502-B3B9-B3C1E8EE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E53-BECC-4400-A467-16E20A67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7C8-686E-48D0-A2E5-A2EACD33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8D3-905F-4893-8E42-B368AFF8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507-14AA-43BF-9BC4-43A8700E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CFD-F8C9-48CF-9B61-A75E2543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28D-0B6A-424E-8777-2FE24024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BB2-7231-4B47-BF3D-ED270396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2A8-6298-486F-B53D-EA29A703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71B-9E27-41E1-B433-8C0422FD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CC8-4B25-4FEE-A47F-D53F0AC1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1F31-ACF9-4F0A-9A6D-6CCD972C1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Monotype Corsiva"/>
              </a:rPr>
              <a:t>Don Mamma étter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s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úsle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0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le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lyá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zz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mbá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0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ús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ká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0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3200"/>
            <a:ext cx="77724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Monotype Corsiva"/>
              </a:rPr>
              <a:t>Don Mamma étter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1557360"/>
            <a:ext cx="358560" cy="475128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75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8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8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9:31:52Z</dcterms:created>
  <dc:creator>Szalayné Tahy Zsuzsa</dc:creator>
  <dc:description/>
  <dc:language>en-US</dc:language>
  <cp:lastModifiedBy>Szalayné Tahy Zsuzsa</cp:lastModifiedBy>
  <dcterms:modified xsi:type="dcterms:W3CDTF">2004-05-01T09:37:11Z</dcterms:modified>
  <cp:revision>2</cp:revision>
  <dc:subject/>
  <dc:title>Don Mamma étterem</dc:title>
</cp:coreProperties>
</file>