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52D-BEF8-4791-94B9-99AB2CB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142-F419-43CF-B686-C845BB7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BCD-ED07-425E-8050-CB4B2458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065-F062-4FE0-B9E6-BA103BB1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6A3-2F7A-4C18-8C76-25EE7E9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FE7-4216-47BB-BD02-8C04218C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D98-1EB4-49A9-80BB-51127C54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0A4-EDFB-49B0-8CF9-EDDD8B3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4EA-9705-47B8-AC47-48F2ACF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E3-2757-4A1B-8079-FDAEFEB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ED8-D853-4578-9D0E-BFBB3BD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682-B2E0-48D6-9612-16111D5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4E99-AED7-4D97-B4AA-8FD3CD1BA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85120" y="3692520"/>
            <a:ext cx="1758240" cy="1339200"/>
            <a:chOff x="3885120" y="3692520"/>
            <a:chExt cx="1758240" cy="1339200"/>
          </a:xfrm>
        </p:grpSpPr>
        <p:sp>
          <p:nvSpPr>
            <p:cNvPr id="45" name=""/>
            <p:cNvSpPr/>
            <p:nvPr/>
          </p:nvSpPr>
          <p:spPr>
            <a:xfrm>
              <a:off x="3885120" y="45720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 - Kit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cica" descr=""/>
            <p:cNvPicPr/>
            <p:nvPr/>
          </p:nvPicPr>
          <p:blipFill>
            <a:blip r:embed="rId1"/>
            <a:stretch/>
          </p:blipFill>
          <p:spPr>
            <a:xfrm>
              <a:off x="4206960" y="3692520"/>
              <a:ext cx="1143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6171840" y="4343400"/>
            <a:ext cx="2334240" cy="1526400"/>
            <a:chOff x="6171840" y="4343400"/>
            <a:chExt cx="2334240" cy="1526400"/>
          </a:xfrm>
        </p:grpSpPr>
        <p:sp>
          <p:nvSpPr>
            <p:cNvPr id="48" name=""/>
            <p:cNvSpPr/>
            <p:nvPr/>
          </p:nvSpPr>
          <p:spPr>
            <a:xfrm>
              <a:off x="6171840" y="541008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jom - M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majom" descr=""/>
            <p:cNvPicPr/>
            <p:nvPr/>
          </p:nvPicPr>
          <p:blipFill>
            <a:blip r:embed="rId2"/>
            <a:stretch/>
          </p:blipFill>
          <p:spPr>
            <a:xfrm>
              <a:off x="6869160" y="4343400"/>
              <a:ext cx="939600" cy="9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3962160" y="1940040"/>
            <a:ext cx="1605600" cy="1110600"/>
            <a:chOff x="3962160" y="1940040"/>
            <a:chExt cx="1605600" cy="1110600"/>
          </a:xfrm>
        </p:grpSpPr>
        <p:sp>
          <p:nvSpPr>
            <p:cNvPr id="51" name=""/>
            <p:cNvSpPr/>
            <p:nvPr/>
          </p:nvSpPr>
          <p:spPr>
            <a:xfrm>
              <a:off x="3962160" y="25909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lac - P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malac" descr=""/>
            <p:cNvPicPr/>
            <p:nvPr/>
          </p:nvPicPr>
          <p:blipFill>
            <a:blip r:embed="rId3"/>
            <a:stretch/>
          </p:blipFill>
          <p:spPr>
            <a:xfrm>
              <a:off x="4325760" y="1940040"/>
              <a:ext cx="87660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6477120" y="1219320"/>
            <a:ext cx="1858680" cy="1831320"/>
            <a:chOff x="6477120" y="1219320"/>
            <a:chExt cx="1858680" cy="1831320"/>
          </a:xfrm>
        </p:grpSpPr>
        <p:sp>
          <p:nvSpPr>
            <p:cNvPr id="54" name=""/>
            <p:cNvSpPr/>
            <p:nvPr/>
          </p:nvSpPr>
          <p:spPr>
            <a:xfrm>
              <a:off x="6477120" y="2590920"/>
              <a:ext cx="18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yúl - Rab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nyul" descr=""/>
            <p:cNvPicPr/>
            <p:nvPr/>
          </p:nvPicPr>
          <p:blipFill>
            <a:blip r:embed="rId4"/>
            <a:stretch/>
          </p:blipFill>
          <p:spPr>
            <a:xfrm>
              <a:off x="6939000" y="1219320"/>
              <a:ext cx="933480" cy="12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1220760" y="4267080"/>
            <a:ext cx="1552320" cy="1602720"/>
            <a:chOff x="1220760" y="4267080"/>
            <a:chExt cx="1552320" cy="1602720"/>
          </a:xfrm>
        </p:grpSpPr>
        <p:sp>
          <p:nvSpPr>
            <p:cNvPr id="57" name=""/>
            <p:cNvSpPr/>
            <p:nvPr/>
          </p:nvSpPr>
          <p:spPr>
            <a:xfrm>
              <a:off x="1220760" y="5410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óka - 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roka" descr=""/>
            <p:cNvPicPr/>
            <p:nvPr/>
          </p:nvPicPr>
          <p:blipFill>
            <a:blip r:embed="rId5"/>
            <a:stretch/>
          </p:blipFill>
          <p:spPr>
            <a:xfrm>
              <a:off x="1647720" y="4267080"/>
              <a:ext cx="698760" cy="10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762120" y="1219320"/>
            <a:ext cx="2315880" cy="1831320"/>
            <a:chOff x="762120" y="1219320"/>
            <a:chExt cx="2315880" cy="1831320"/>
          </a:xfrm>
        </p:grpSpPr>
        <p:sp>
          <p:nvSpPr>
            <p:cNvPr id="60" name=""/>
            <p:cNvSpPr/>
            <p:nvPr/>
          </p:nvSpPr>
          <p:spPr>
            <a:xfrm>
              <a:off x="762120" y="259092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már - D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szamar" descr=""/>
            <p:cNvPicPr/>
            <p:nvPr/>
          </p:nvPicPr>
          <p:blipFill>
            <a:blip r:embed="rId6"/>
            <a:stretch/>
          </p:blipFill>
          <p:spPr>
            <a:xfrm>
              <a:off x="1405080" y="1219320"/>
              <a:ext cx="102852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8040" y="5257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ten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7440" y="52578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bbit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58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x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609588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nkey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52578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g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6095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nkey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ica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majom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0" name="malac" descr=""/>
          <p:cNvPicPr/>
          <p:nvPr/>
        </p:nvPicPr>
        <p:blipFill>
          <a:blip r:embed="rId3"/>
          <a:stretch/>
        </p:blipFill>
        <p:spPr>
          <a:xfrm>
            <a:off x="4325760" y="1940040"/>
            <a:ext cx="876600" cy="583920"/>
          </a:xfrm>
          <a:prstGeom prst="rect">
            <a:avLst/>
          </a:prstGeom>
          <a:ln w="0">
            <a:noFill/>
          </a:ln>
        </p:spPr>
      </p:pic>
      <p:pic>
        <p:nvPicPr>
          <p:cNvPr id="71" name="nyul" descr=""/>
          <p:cNvPicPr/>
          <p:nvPr/>
        </p:nvPicPr>
        <p:blipFill>
          <a:blip r:embed="rId4"/>
          <a:stretch/>
        </p:blipFill>
        <p:spPr>
          <a:xfrm>
            <a:off x="6629400" y="144792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roka" descr=""/>
          <p:cNvPicPr/>
          <p:nvPr/>
        </p:nvPicPr>
        <p:blipFill>
          <a:blip r:embed="rId5"/>
          <a:stretch/>
        </p:blipFill>
        <p:spPr>
          <a:xfrm>
            <a:off x="2362320" y="3429000"/>
            <a:ext cx="69840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szamar" descr=""/>
          <p:cNvPicPr/>
          <p:nvPr/>
        </p:nvPicPr>
        <p:blipFill>
          <a:blip r:embed="rId6"/>
          <a:stretch/>
        </p:blipFill>
        <p:spPr>
          <a:xfrm>
            <a:off x="6248520" y="2971800"/>
            <a:ext cx="1028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457200" y="685800"/>
            <a:ext cx="5410080" cy="4191120"/>
            <a:chOff x="457200" y="685800"/>
            <a:chExt cx="5410080" cy="4191120"/>
          </a:xfrm>
        </p:grpSpPr>
        <p:sp>
          <p:nvSpPr>
            <p:cNvPr id="75" name=""/>
            <p:cNvSpPr/>
            <p:nvPr/>
          </p:nvSpPr>
          <p:spPr>
            <a:xfrm>
              <a:off x="457200" y="1066680"/>
              <a:ext cx="5410080" cy="3810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120" y="68580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ea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52680" y="609480"/>
            <a:ext cx="5410440" cy="4191120"/>
            <a:chOff x="3352680" y="609480"/>
            <a:chExt cx="5410440" cy="4191120"/>
          </a:xfrm>
        </p:grpSpPr>
        <p:sp>
          <p:nvSpPr>
            <p:cNvPr id="78" name=""/>
            <p:cNvSpPr/>
            <p:nvPr/>
          </p:nvSpPr>
          <p:spPr>
            <a:xfrm>
              <a:off x="3352680" y="990720"/>
              <a:ext cx="5410440" cy="380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4600" y="60948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plan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0:32:30Z</dcterms:created>
  <dc:creator>Szalay Sándor</dc:creator>
  <dc:description/>
  <dc:language>en-US</dc:language>
  <cp:lastModifiedBy>Szalay Sándor</cp:lastModifiedBy>
  <dcterms:modified xsi:type="dcterms:W3CDTF">2002-12-26T10:58:01Z</dcterms:modified>
  <cp:revision>2</cp:revision>
  <dc:subject/>
  <dc:title>Animals</dc:title>
</cp:coreProperties>
</file>