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FA8-3FF9-45BF-AD25-69B85DD0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2D6-4A41-481B-8946-DA067D17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9CA-05D5-4FE6-BD2F-2C7052EE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BB7-680C-441F-9FCB-A9334006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5DA-156C-4E96-8567-F4A9E65B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84F-4E95-4061-A8A3-32183DDA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2FB-6224-4E7E-8331-317C107A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39B-ADCA-4F56-A6C8-09186062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65C-45B2-4737-9A19-2C3D0466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AA7-6140-4DC8-A403-899DAEE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578-4B57-463F-837A-8C41E18D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9AF-8581-469E-A926-FBCA7F7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8ADD-F6EB-4F20-9CD4-E7B9B8D91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Monotype Corsiva"/>
              </a:rPr>
              <a:t>Don Mamma étter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s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úsle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le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ly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zz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mb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ús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k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3200"/>
            <a:ext cx="77724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Monotype Corsiva"/>
              </a:rPr>
              <a:t>Don Mamma étter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1557360"/>
            <a:ext cx="358560" cy="475128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75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8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8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9:31:52Z</dcterms:created>
  <dc:creator>Szalayné Tahy Zsuzsa</dc:creator>
  <dc:description/>
  <dc:language>en-US</dc:language>
  <cp:lastModifiedBy>Szalayné Tahy Zsuzsa</cp:lastModifiedBy>
  <dcterms:modified xsi:type="dcterms:W3CDTF">2004-05-01T09:37:11Z</dcterms:modified>
  <cp:revision>2</cp:revision>
  <dc:subject/>
  <dc:title>Don Mamma étterem</dc:title>
</cp:coreProperties>
</file>