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4EB-C678-46A6-93EA-3EF5DA80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331-9EEB-4999-9614-7DE61941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224-3CA2-4FFA-A2CB-004A835E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1E6-D859-454B-BBAE-9FF2BFED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3F8-6C99-4523-A1C6-7230BF29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6F1-9CFA-4BAF-AF82-F2B0E5C4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A68-9647-4C9B-AB9A-6DB84BBA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C8C2-2F6B-4762-9851-4669720C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B33-2B37-4B4F-9C9D-5941280B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528-3FC3-45A9-A1F0-C34FE382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8E1-A8C5-44F3-A922-26CEE455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828-353E-4871-806E-90CBD531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99f8"/>
            </a:gs>
            <a:gs pos="50000">
              <a:srgbClr val="c0e4fc"/>
            </a:gs>
            <a:gs pos="100000">
              <a:srgbClr val="0e99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cb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c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5c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5c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5c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5c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ABE1-C9FA-4B08-AA65-A7F052836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99f8"/>
            </a:gs>
            <a:gs pos="50000">
              <a:srgbClr val="c0e4fc"/>
            </a:gs>
            <a:gs pos="100000">
              <a:srgbClr val="0e99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0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5cbf"/>
                </a:solidFill>
                <a:latin typeface="Arial"/>
              </a:rPr>
              <a:t>Kockaház utcai</a:t>
            </a:r>
            <a:br>
              <a:rPr sz="6000"/>
            </a:br>
            <a:r>
              <a:rPr b="1" lang="en-US" sz="6000" spc="-1" strike="noStrike">
                <a:solidFill>
                  <a:srgbClr val="005cbf"/>
                </a:solidFill>
                <a:latin typeface="Arial"/>
              </a:rPr>
              <a:t>Általános Iskola és Gimnázium</a:t>
            </a:r>
            <a:endParaRPr b="0" lang="en-US" sz="6000" spc="-1" strike="noStrike">
              <a:solidFill>
                <a:srgbClr val="005cb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99f8"/>
            </a:gs>
            <a:gs pos="50000">
              <a:srgbClr val="c0e4fc"/>
            </a:gs>
            <a:gs pos="100000">
              <a:srgbClr val="0e99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cbf"/>
                </a:solidFill>
                <a:latin typeface="Arial"/>
              </a:rPr>
              <a:t>Iskolánk felépítése</a:t>
            </a: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c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1" action="ppaction://hlinksldjump"/>
              </a:rPr>
              <a:t>Általános iskolai tagozat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c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2" action="ppaction://hlinksldjump"/>
              </a:rPr>
              <a:t>Középiskolai tagozat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endshow"/>
          </p:cNvPr>
          <p:cNvSpPr/>
          <p:nvPr/>
        </p:nvSpPr>
        <p:spPr>
          <a:xfrm>
            <a:off x="7812000" y="581508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7243" y="10800"/>
                </a:moveTo>
                <a:lnTo>
                  <a:pt x="6738" y="17806"/>
                </a:lnTo>
                <a:lnTo>
                  <a:pt x="6738" y="3794"/>
                </a:lnTo>
                <a:close/>
              </a:path>
              <a:path fill="darken" w="27488" h="21600">
                <a:moveTo>
                  <a:pt x="19088" y="3794"/>
                </a:moveTo>
                <a:lnTo>
                  <a:pt x="19088" y="17806"/>
                </a:lnTo>
                <a:lnTo>
                  <a:pt x="20751" y="17806"/>
                </a:lnTo>
                <a:lnTo>
                  <a:pt x="20751" y="3794"/>
                </a:lnTo>
                <a:close/>
              </a:path>
            </a:pathLst>
          </a:custGeom>
          <a:solidFill>
            <a:srgbClr val="025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99f8"/>
            </a:gs>
            <a:gs pos="50000">
              <a:srgbClr val="c0e4fc"/>
            </a:gs>
            <a:gs pos="100000">
              <a:srgbClr val="0e99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cbf"/>
                </a:solidFill>
                <a:latin typeface="Arial"/>
              </a:rPr>
              <a:t>Általános Iskola</a:t>
            </a: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11280" y="2852640"/>
            <a:ext cx="42688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cbf"/>
                </a:solidFill>
                <a:latin typeface="Arial"/>
              </a:rPr>
              <a:t>Általános</a:t>
            </a:r>
            <a:endParaRPr b="0" lang="en-US" sz="3600" spc="-1" strike="noStrike">
              <a:solidFill>
                <a:srgbClr val="005cb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cbf"/>
                </a:solidFill>
                <a:latin typeface="Arial"/>
              </a:rPr>
              <a:t>Matematika</a:t>
            </a:r>
            <a:endParaRPr b="0" lang="en-US" sz="3600" spc="-1" strike="noStrike">
              <a:solidFill>
                <a:srgbClr val="005cb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cbf"/>
                </a:solidFill>
                <a:latin typeface="Arial"/>
              </a:rPr>
              <a:t>Angol</a:t>
            </a:r>
            <a:endParaRPr b="0" lang="en-US" sz="3600" spc="-1" strike="noStrike">
              <a:solidFill>
                <a:srgbClr val="005cb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812000" y="5805360"/>
            <a:ext cx="1008000" cy="79236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7476" h="21600">
                <a:moveTo>
                  <a:pt x="0" y="0"/>
                </a:moveTo>
                <a:lnTo>
                  <a:pt x="27476" y="0"/>
                </a:lnTo>
                <a:lnTo>
                  <a:pt x="27476" y="21600"/>
                </a:lnTo>
                <a:lnTo>
                  <a:pt x="0" y="21600"/>
                </a:lnTo>
                <a:close/>
              </a:path>
              <a:path fill="lightenLess" w="27476" h="21600">
                <a:moveTo>
                  <a:pt x="0" y="0"/>
                </a:moveTo>
                <a:lnTo>
                  <a:pt x="27476" y="0"/>
                </a:lnTo>
                <a:lnTo>
                  <a:pt x="26076" y="1400"/>
                </a:lnTo>
                <a:lnTo>
                  <a:pt x="1400" y="1400"/>
                </a:lnTo>
                <a:close/>
              </a:path>
              <a:path fill="darken" w="27476" h="21600">
                <a:moveTo>
                  <a:pt x="27476" y="0"/>
                </a:moveTo>
                <a:lnTo>
                  <a:pt x="27476" y="21600"/>
                </a:lnTo>
                <a:lnTo>
                  <a:pt x="26076" y="20200"/>
                </a:lnTo>
                <a:lnTo>
                  <a:pt x="26076" y="1400"/>
                </a:lnTo>
                <a:close/>
              </a:path>
              <a:path fill="darkenLess" w="27476" h="21600">
                <a:moveTo>
                  <a:pt x="27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76" y="20200"/>
                </a:lnTo>
                <a:close/>
              </a:path>
              <a:path fill="lighten" w="27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76" h="21600">
                <a:moveTo>
                  <a:pt x="6731" y="10800"/>
                </a:moveTo>
                <a:lnTo>
                  <a:pt x="20744" y="3794"/>
                </a:lnTo>
                <a:lnTo>
                  <a:pt x="20744" y="17806"/>
                </a:lnTo>
                <a:close/>
              </a:path>
            </a:pathLst>
          </a:custGeom>
          <a:solidFill>
            <a:srgbClr val="025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3280" y="1844640"/>
            <a:ext cx="42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Választható osztály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99f8"/>
            </a:gs>
            <a:gs pos="50000">
              <a:srgbClr val="c0e4fc"/>
            </a:gs>
            <a:gs pos="100000">
              <a:srgbClr val="0e99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cbf"/>
                </a:solidFill>
                <a:latin typeface="Arial"/>
              </a:rPr>
              <a:t>Középiskola</a:t>
            </a: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32842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Általános gimnázium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Idegenforgalmi szakközépiskola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Kereskedelmi szakközépiskola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12000" y="5805360"/>
            <a:ext cx="1008000" cy="79236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7476" h="21600">
                <a:moveTo>
                  <a:pt x="0" y="0"/>
                </a:moveTo>
                <a:lnTo>
                  <a:pt x="27476" y="0"/>
                </a:lnTo>
                <a:lnTo>
                  <a:pt x="27476" y="21600"/>
                </a:lnTo>
                <a:lnTo>
                  <a:pt x="0" y="21600"/>
                </a:lnTo>
                <a:close/>
              </a:path>
              <a:path fill="lightenLess" w="27476" h="21600">
                <a:moveTo>
                  <a:pt x="0" y="0"/>
                </a:moveTo>
                <a:lnTo>
                  <a:pt x="27476" y="0"/>
                </a:lnTo>
                <a:lnTo>
                  <a:pt x="26076" y="1400"/>
                </a:lnTo>
                <a:lnTo>
                  <a:pt x="1400" y="1400"/>
                </a:lnTo>
                <a:close/>
              </a:path>
              <a:path fill="darken" w="27476" h="21600">
                <a:moveTo>
                  <a:pt x="27476" y="0"/>
                </a:moveTo>
                <a:lnTo>
                  <a:pt x="27476" y="21600"/>
                </a:lnTo>
                <a:lnTo>
                  <a:pt x="26076" y="20200"/>
                </a:lnTo>
                <a:lnTo>
                  <a:pt x="26076" y="1400"/>
                </a:lnTo>
                <a:close/>
              </a:path>
              <a:path fill="darkenLess" w="27476" h="21600">
                <a:moveTo>
                  <a:pt x="27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76" y="20200"/>
                </a:lnTo>
                <a:close/>
              </a:path>
              <a:path fill="lighten" w="27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76" h="21600">
                <a:moveTo>
                  <a:pt x="6731" y="10800"/>
                </a:moveTo>
                <a:lnTo>
                  <a:pt x="20744" y="3794"/>
                </a:lnTo>
                <a:lnTo>
                  <a:pt x="20744" y="17806"/>
                </a:lnTo>
                <a:close/>
              </a:path>
            </a:pathLst>
          </a:custGeom>
          <a:solidFill>
            <a:srgbClr val="025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70320" y="1844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Választható képzés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17:52:49Z</dcterms:created>
  <dc:creator/>
  <dc:description/>
  <dc:language>en-US</dc:language>
  <cp:lastModifiedBy>Szalayné Tahy Zsuzsa</cp:lastModifiedBy>
  <dcterms:modified xsi:type="dcterms:W3CDTF">2004-05-01T08:35:44Z</dcterms:modified>
  <cp:revision>8</cp:revision>
  <dc:subject/>
  <dc:title>Iskola</dc:title>
</cp:coreProperties>
</file>