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81f5b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B7B6-8D5A-4C65-8947-62882EA1A69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z a folyamat ráadásul gyor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BB3-FE87-426F-9CD6-0CCCC280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5562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76360" y="4784760"/>
            <a:ext cx="5562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70A-B579-4734-BC63-2A0CC3DA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76360" y="478476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126840" y="478476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508-98F3-4726-A3D5-3C08ECE0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7360" y="426708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38360" y="426708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76360" y="478476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57360" y="478476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38360" y="478476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EBB-9C7F-42B9-B552-C32371CD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D6F9-1047-42E1-B7EA-E4F682D3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76360" y="4267080"/>
            <a:ext cx="5562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E45D-979D-42C9-A5CA-71D1F1E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5562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9178-FD86-4F49-BCA3-EECCBC50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55A0-4027-4031-8536-F8782C10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FDD3-2EB6-42A3-9E5D-82DBA2DA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1400" y="2619000"/>
            <a:ext cx="58276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DA7E-DC63-4CDC-99A3-FFFD238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76360" y="478476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CC80-4C4A-4A5F-9165-24D29813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76360" y="4267080"/>
            <a:ext cx="5562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E2D-8BDE-4CF7-9A35-1456FA73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6840" y="478476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3801-D486-42D2-99E7-B939E60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76360" y="4784760"/>
            <a:ext cx="5562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CAE4-B5E8-4A58-8750-E82A08F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5562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76360" y="4784760"/>
            <a:ext cx="5562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B210-ECB7-4681-AEF0-2CA3C342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76360" y="478476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26840" y="478476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F0C4-1AC1-4193-BF5C-74F6103A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7360" y="426708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038360" y="426708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76360" y="478476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57360" y="478476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038360" y="4784760"/>
            <a:ext cx="17910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38A1-E9AD-40EB-A854-92E33FEE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5562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527-0338-4346-AC94-C6F135C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B7C-05EA-4BEF-AC32-FF70D6AA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B03-929F-4D30-8CBF-58004028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1400" y="2619000"/>
            <a:ext cx="58276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509-5A19-4C27-9857-64700ED4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76360" y="478476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869-335C-453A-8AFE-EA87330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6840" y="478476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C45-5CA8-4EFE-88BE-1DE46139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7636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26840" y="4267080"/>
            <a:ext cx="27144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76360" y="4784760"/>
            <a:ext cx="5562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602-EA40-4556-9EB5-118290D3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1280" y="1916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1f5b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f5b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1f5b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f5b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4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1f5b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F00D-3A45-40A2-8B40-CFDE261FCBC0}" type="slidenum">
              <a:rPr b="0" lang="en-US" sz="1400" spc="-1" strike="noStrike">
                <a:solidFill>
                  <a:srgbClr val="081f5b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81f5b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1f5b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f5b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1f5b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1f5b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164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1f5b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696-B130-4A78-B808-5858709E7589}" type="slidenum">
              <a:rPr b="0" lang="en-US" sz="1400" spc="-1" strike="noStrike">
                <a:solidFill>
                  <a:srgbClr val="081f5b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f5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81f5b"/>
              </a:buClr>
              <a:buSzPct val="70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f5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1f5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f5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1f5b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f5b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81f5b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f5b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81f5b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1f5b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81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f5b"/>
                </a:solidFill>
                <a:latin typeface="Arial"/>
              </a:rPr>
              <a:t>Frontális pedagógia</a:t>
            </a:r>
            <a:br>
              <a:rPr sz="3200"/>
            </a:br>
            <a:r>
              <a:rPr b="1" lang="en-US" sz="3200" spc="-1" strike="noStrike">
                <a:solidFill>
                  <a:srgbClr val="081f5b"/>
                </a:solidFill>
                <a:latin typeface="Arial"/>
              </a:rPr>
              <a:t>helyett</a:t>
            </a:r>
            <a:br>
              <a:rPr sz="3200"/>
            </a:br>
            <a:r>
              <a:rPr b="1" lang="en-US" sz="3200" spc="-1" strike="noStrike">
                <a:solidFill>
                  <a:srgbClr val="081f5b"/>
                </a:solidFill>
                <a:latin typeface="Arial"/>
              </a:rPr>
              <a:t>„konstruktivista” pedagógia</a:t>
            </a:r>
            <a:endParaRPr b="1" lang="en-US" sz="32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144600" y="4267080"/>
            <a:ext cx="5562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f5b"/>
                </a:solidFill>
                <a:latin typeface="Arial"/>
              </a:rPr>
              <a:t>Dr. Magyar Bálint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f5b"/>
                </a:solidFill>
                <a:latin typeface="Arial"/>
              </a:rPr>
              <a:t>Oktatási miniszter</a:t>
            </a:r>
            <a:endParaRPr b="0" lang="en-US" sz="1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5562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f5b"/>
                </a:solidFill>
                <a:latin typeface="Arial"/>
              </a:rPr>
              <a:t>2004. október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D224-8E1A-4785-B65D-70C6E953024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Tanulás egy életen át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Az oktatás középpontjába a folyamatos tanulásra felkészítő készségek, kompetenciák kell, hogy kerüljenek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Intelligens tanulás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Digitális írástudás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Problémamegoldó készség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Kommunikációs készség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Szociális és életviteli készségek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77A-642E-4CD6-9FF0-EA20212599C3}" type="slidenum">
              <a:t>10</a:t>
            </a:fld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Paradigma váltás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916280"/>
          <a:ext cx="8172360" cy="3049560"/>
        </p:xfrm>
        <a:graphic>
          <a:graphicData uri="http://schemas.openxmlformats.org/drawingml/2006/table">
            <a:tbl>
              <a:tblPr/>
              <a:tblGrid>
                <a:gridCol w="3732120"/>
                <a:gridCol w="4440240"/>
              </a:tblGrid>
              <a:tr h="510120"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Ipari társadal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udás alapú társadal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Tények, adatok, szabályok</a:t>
                      </a:r>
                      <a:r>
                        <a:rPr b="0" lang="en-US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Képességek és kompetenci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Zárt, végleges, tankönyv-tud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átadása egyszeri alkalom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Élethosszig tartó kapcsolat tudás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Hálózatokk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Rögzített, homogén csopor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tanu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Tanulás rugalmas, heterogé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  <a:ea typeface="Times New Roman"/>
                        </a:rPr>
                        <a:t>csoportokban (személyre szabot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</a:rPr>
                        <a:t>Frontális okta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</a:rPr>
                        <a:t>„</a:t>
                      </a:r>
                      <a:r>
                        <a:rPr b="0" lang="hu-HU" sz="2000" spc="-1" strike="noStrike">
                          <a:solidFill>
                            <a:srgbClr val="081f5b"/>
                          </a:solidFill>
                          <a:latin typeface="Arial"/>
                        </a:rPr>
                        <a:t>Konstruktivista” okta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F1E-3A31-4597-B001-2B949E2A6FCB}" type="slidenum">
              <a:t>11</a:t>
            </a:fld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Digitális tartalomszolgáltatás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81f5b"/>
                </a:solidFill>
                <a:latin typeface="Arial"/>
              </a:rPr>
              <a:t>Sulinet Digitális Tudásbázis 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7-12. évfolyamok közismereti tárgyainak digitalizált tananyagai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10 tantárgy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Példák, animációk, demonstrációs filmek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Kiegészítő adatbázisok, háttér információk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Módszertani segédletek, óravázlatok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Egyedileg alakítható tartalom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Fórum, chat, kollaborációs lehetőség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15280" y="0"/>
            <a:ext cx="2628720" cy="21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1EC-1192-472A-BBA4-16F4E1C34826}" type="slidenum">
              <a:t>12</a:t>
            </a:fld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SDT – A tananyag felépítése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372360" y="2349360"/>
            <a:ext cx="936360" cy="2305080"/>
            <a:chOff x="6372360" y="2349360"/>
            <a:chExt cx="936360" cy="2305080"/>
          </a:xfrm>
        </p:grpSpPr>
        <p:sp>
          <p:nvSpPr>
            <p:cNvPr id="123" name=""/>
            <p:cNvSpPr/>
            <p:nvPr/>
          </p:nvSpPr>
          <p:spPr>
            <a:xfrm>
              <a:off x="6372360" y="2349360"/>
              <a:ext cx="936360" cy="230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Documents"/>
            <p:cNvSpPr/>
            <p:nvPr/>
          </p:nvSpPr>
          <p:spPr>
            <a:xfrm>
              <a:off x="6588000" y="2638440"/>
              <a:ext cx="433080" cy="647640"/>
            </a:xfrm>
            <a:prstGeom prst="pi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rcRect l="0" t="0" r="0" b="61839"/>
          <a:stretch/>
        </p:blipFill>
        <p:spPr>
          <a:xfrm>
            <a:off x="1187280" y="3141720"/>
            <a:ext cx="679680" cy="468360"/>
          </a:xfrm>
          <a:prstGeom prst="rect">
            <a:avLst/>
          </a:prstGeom>
          <a:ln w="0">
            <a:noFill/>
          </a:ln>
        </p:spPr>
      </p:pic>
      <p:sp>
        <p:nvSpPr>
          <p:cNvPr id="126" name="Music"/>
          <p:cNvSpPr/>
          <p:nvPr/>
        </p:nvSpPr>
        <p:spPr>
          <a:xfrm>
            <a:off x="1187280" y="2278080"/>
            <a:ext cx="400320" cy="473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hoto"/>
          <p:cNvSpPr/>
          <p:nvPr/>
        </p:nvSpPr>
        <p:spPr>
          <a:xfrm>
            <a:off x="1187280" y="3789360"/>
            <a:ext cx="544680" cy="3938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ilm"/>
          <p:cNvSpPr/>
          <p:nvPr/>
        </p:nvSpPr>
        <p:spPr>
          <a:xfrm>
            <a:off x="1258920" y="4365720"/>
            <a:ext cx="453960" cy="581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916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cuments"/>
          <p:cNvSpPr/>
          <p:nvPr/>
        </p:nvSpPr>
        <p:spPr>
          <a:xfrm>
            <a:off x="6659640" y="5373720"/>
            <a:ext cx="433440" cy="6476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63640" y="2494080"/>
            <a:ext cx="863640" cy="791640"/>
            <a:chOff x="1763640" y="2494080"/>
            <a:chExt cx="863640" cy="791640"/>
          </a:xfrm>
        </p:grpSpPr>
        <p:sp>
          <p:nvSpPr>
            <p:cNvPr id="132" name=""/>
            <p:cNvSpPr/>
            <p:nvPr/>
          </p:nvSpPr>
          <p:spPr>
            <a:xfrm>
              <a:off x="1763640" y="2494080"/>
              <a:ext cx="863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763640" y="2925720"/>
              <a:ext cx="863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763640" y="3933720"/>
            <a:ext cx="863640" cy="720360"/>
            <a:chOff x="1763640" y="3933720"/>
            <a:chExt cx="863640" cy="720360"/>
          </a:xfrm>
        </p:grpSpPr>
        <p:sp>
          <p:nvSpPr>
            <p:cNvPr id="135" name=""/>
            <p:cNvSpPr/>
            <p:nvPr/>
          </p:nvSpPr>
          <p:spPr>
            <a:xfrm>
              <a:off x="1834920" y="393372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763640" y="4077720"/>
              <a:ext cx="863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95640" y="2349360"/>
            <a:ext cx="1368360" cy="22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ocument"/>
          <p:cNvSpPr/>
          <p:nvPr/>
        </p:nvSpPr>
        <p:spPr>
          <a:xfrm>
            <a:off x="4067280" y="2638440"/>
            <a:ext cx="393480" cy="541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2771640" y="2565360"/>
            <a:ext cx="393840" cy="541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9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glalk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35640" y="2997360"/>
            <a:ext cx="93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s"/>
          <p:cNvSpPr/>
          <p:nvPr/>
        </p:nvSpPr>
        <p:spPr>
          <a:xfrm>
            <a:off x="6659640" y="3718080"/>
            <a:ext cx="433440" cy="6476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ocument"/>
          <p:cNvSpPr/>
          <p:nvPr/>
        </p:nvSpPr>
        <p:spPr>
          <a:xfrm>
            <a:off x="4067280" y="3429000"/>
            <a:ext cx="393480" cy="541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ocument"/>
          <p:cNvSpPr/>
          <p:nvPr/>
        </p:nvSpPr>
        <p:spPr>
          <a:xfrm>
            <a:off x="2771640" y="3646440"/>
            <a:ext cx="393840" cy="541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cument"/>
          <p:cNvSpPr/>
          <p:nvPr/>
        </p:nvSpPr>
        <p:spPr>
          <a:xfrm>
            <a:off x="4788000" y="5373720"/>
            <a:ext cx="393480" cy="541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4920" y="2781360"/>
            <a:ext cx="649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74920" y="3789360"/>
            <a:ext cx="649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ocument"/>
          <p:cNvSpPr/>
          <p:nvPr/>
        </p:nvSpPr>
        <p:spPr>
          <a:xfrm>
            <a:off x="4788000" y="3933720"/>
            <a:ext cx="393480" cy="541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38" idx="8"/>
            <a:endCxn id="149" idx="8"/>
          </p:cNvCxnSpPr>
          <p:nvPr/>
        </p:nvCxnSpPr>
        <p:spPr>
          <a:xfrm>
            <a:off x="4462200" y="2905200"/>
            <a:ext cx="523080" cy="10310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49" idx="9"/>
            <a:endCxn id="144" idx="8"/>
          </p:cNvCxnSpPr>
          <p:nvPr/>
        </p:nvCxnSpPr>
        <p:spPr>
          <a:xfrm rot="10800000">
            <a:off x="4461840" y="3695040"/>
            <a:ext cx="327600" cy="510120"/>
          </a:xfrm>
          <a:prstGeom prst="bentConnector3">
            <a:avLst>
              <a:gd name="adj1" fmla="val 5038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2700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875640" y="4438800"/>
            <a:ext cx="14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003280" y="45100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24" idx="12"/>
            <a:endCxn id="143" idx="12"/>
          </p:cNvCxnSpPr>
          <p:nvPr/>
        </p:nvCxnSpPr>
        <p:spPr>
          <a:xfrm rot="5400000">
            <a:off x="6700320" y="3463920"/>
            <a:ext cx="430920" cy="78480"/>
          </a:xfrm>
          <a:prstGeom prst="bentConnector3">
            <a:avLst>
              <a:gd name="adj1" fmla="val 49749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28760" y="4560840"/>
            <a:ext cx="1785960" cy="156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515280" y="0"/>
            <a:ext cx="2628720" cy="21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4CB-FB59-44BA-97C0-B036AB277217}" type="slidenum">
              <a:t>13</a:t>
            </a:fld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47372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SDT - Alkalmazás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Tanár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81f5b"/>
                </a:solidFill>
                <a:latin typeface="Arial"/>
              </a:rPr>
              <a:t>Előre elkészített, illetve csapatban vagy egyedileg fejlesztett tartalmak felhasználása a tanórán</a:t>
            </a:r>
            <a:endParaRPr b="0" lang="en-US" sz="20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81f5b"/>
                </a:solidFill>
                <a:latin typeface="Arial"/>
              </a:rPr>
              <a:t>Foglalkozás, téma átszerkesztése</a:t>
            </a:r>
            <a:endParaRPr b="0" lang="en-US" sz="20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81f5b"/>
                </a:solidFill>
                <a:latin typeface="Arial"/>
              </a:rPr>
              <a:t>Kooperatív munka a tanórán vagy projektfeladat</a:t>
            </a:r>
            <a:endParaRPr b="0" lang="en-US" sz="20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Diák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81f5b"/>
                </a:solidFill>
                <a:latin typeface="Arial"/>
              </a:rPr>
              <a:t>Egyéni tanulás</a:t>
            </a:r>
            <a:endParaRPr b="0" lang="en-US" sz="20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81f5b"/>
                </a:solidFill>
                <a:latin typeface="Arial"/>
              </a:rPr>
              <a:t>Háttér a felkészüléshez (házi dolgozat, kiselőadás stb.)</a:t>
            </a:r>
            <a:endParaRPr b="0" lang="en-US" sz="20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81f5b"/>
                </a:solidFill>
                <a:latin typeface="Arial"/>
              </a:rPr>
              <a:t>Kollaboratív, kooperatív tanulás</a:t>
            </a:r>
            <a:endParaRPr b="0" lang="en-US" sz="20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81f5b"/>
                </a:solidFill>
                <a:latin typeface="Arial"/>
              </a:rPr>
              <a:t>Tartalomfejlesztés egyénileg vagy együttműködésben</a:t>
            </a:r>
            <a:endParaRPr b="0" lang="en-US" sz="2000" spc="-1" strike="noStrike">
              <a:solidFill>
                <a:srgbClr val="081f5b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15280" y="0"/>
            <a:ext cx="2628720" cy="21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8A3-A304-4871-9F62-5F8D0E6A4396}" type="slidenum">
              <a:t>14</a:t>
            </a:fld>
          </a:p>
        </p:txBody>
      </p:sp>
    </p:spTree>
  </p:cSld>
  <p:transition>
    <p:push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SDT – Webes megjelenítés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57600" y="3409920"/>
            <a:ext cx="28800" cy="38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57600" y="3409920"/>
            <a:ext cx="28800" cy="38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187280" y="1700280"/>
            <a:ext cx="7129800" cy="4147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515280" y="0"/>
            <a:ext cx="2628720" cy="21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146-B5BE-4E0E-A870-B590EFA5897C}" type="slidenum">
              <a:t>15</a:t>
            </a:fld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1400" y="2619000"/>
            <a:ext cx="58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81f5b"/>
                </a:solidFill>
                <a:latin typeface="Arial"/>
              </a:rPr>
              <a:t>Köszönöm a figyelmet!</a:t>
            </a:r>
            <a:endParaRPr b="1" lang="en-US" sz="29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5562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f5b"/>
                </a:solidFill>
                <a:latin typeface="Arial"/>
              </a:rPr>
              <a:t>2004. október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AFB8-279F-4817-8FAC-D20CC2C8E794}" type="slidenum">
              <a:t>16</a:t>
            </a:fld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Gyorsuló idő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5 évente a létező szakmák 5%-a kicserélődik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Az infokommunikációs technológiai ismeretek nélkül űzhető szakmák száma 2 évente 5%-kal csökken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Az alapvető IKT ismeretek nélkül űzhető szakmák jövedelemtermelő képessége a minimálbér körül mozog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8E3-2F96-4DCA-8A7B-42FDC2D8B281}" type="slidenum">
              <a:t>2</a:t>
            </a:fld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A tudásváltás jellemzői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A megtanult szakmai ismeretek 10 év alatt elévülnek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A munkavállaláshoz kapcsolódó ismeretek mennyisége az Interneten évente 32-szeresére nő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Az Internet kapcsolatok száma évente megduplázódik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Az elérhető sávszélesség folyamatosan emelkedik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FD5-B255-4490-9818-DDE87EF04384}" type="slidenum">
              <a:t>3</a:t>
            </a:fld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IKT projektek az oktatásban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f5b"/>
                </a:solidFill>
                <a:latin typeface="Arial"/>
              </a:rPr>
              <a:t>Szélessávú Internet hozzáférés biztosítása</a:t>
            </a:r>
            <a:endParaRPr b="0" lang="en-US" sz="32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f5b"/>
                </a:solidFill>
                <a:latin typeface="Arial"/>
              </a:rPr>
              <a:t>IKT infrastruktúra kialakítása</a:t>
            </a:r>
            <a:endParaRPr b="0" lang="en-US" sz="32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f5b"/>
                </a:solidFill>
                <a:latin typeface="Arial"/>
              </a:rPr>
              <a:t>Pedagógus továbbképzés</a:t>
            </a:r>
            <a:endParaRPr b="0" lang="en-US" sz="32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f5b"/>
                </a:solidFill>
                <a:latin typeface="Arial"/>
              </a:rPr>
              <a:t>Digitális tartalomszolgáltatás</a:t>
            </a:r>
            <a:endParaRPr b="0" lang="en-US" sz="32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4C3-FE2E-478A-B37F-02271CAC457A}" type="slidenum">
              <a:t>4</a:t>
            </a:fld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Internet hozzáférés biztosítása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31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Közháló program az Informatikai és Hírközlési Minisztérium szervezésében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Minden közintézmény szélessávú Internet hozzáférést kap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2301 végpont migrációja 2004 szeptember 30-ig 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További 1000 végpont bekötése 2004 végéig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5500 közoktatási intézmény 2005-ig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4B6-F121-4D92-8F80-E75AED7A4F4D}" type="slidenum">
              <a:t>5</a:t>
            </a:fld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Internet hozzáférés biztosítása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81f5b"/>
                </a:solidFill>
                <a:latin typeface="Arial"/>
              </a:rPr>
              <a:t>Helyi hálózatok kialakítása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81f5b"/>
                </a:solidFill>
                <a:latin typeface="Arial"/>
              </a:rPr>
              <a:t>2004 első félévében 300 wireless hálózat átadása a középiskolák számára az IHM által kiírt pályázat keretében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81f5b"/>
                </a:solidFill>
                <a:latin typeface="Arial"/>
              </a:rPr>
              <a:t>2005-ben további kb. 300 db wireless hálózat középiskolák számára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81f5b"/>
                </a:solidFill>
                <a:latin typeface="Arial"/>
              </a:rPr>
              <a:t>600 elzárt vagy határon túli intézmény számára műholdas adatszórás (2004)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980-44CC-4BA3-A081-4EE3552654C2}" type="slidenum">
              <a:t>6</a:t>
            </a:fld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IKT infrastruktúra kialakítása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81f5b"/>
                </a:solidFill>
                <a:latin typeface="Arial"/>
              </a:rPr>
              <a:t>Számítógépes laborok számának növelése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NFT Regionális Operatív Program 2.3 (12,2 mrd Ft)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Phare program (4,8 mrd Ft)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SuliNet program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Innovatív Iskolák (0,3 mrd Ft)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Decentralizált pályázatok (0,3 mrd Ft)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Zsúrkocsi program 2004 (3,3 mrd Ft)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81f5b"/>
                </a:solidFill>
                <a:latin typeface="Arial"/>
              </a:rPr>
              <a:t>2005-től informatika fejlesztésének normatív támogatása (4,5 mrd Ft/év)</a:t>
            </a: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81f5b"/>
                </a:solidFill>
                <a:latin typeface="Arial"/>
              </a:rPr>
              <a:t>120 - 130.000 új multimédiás PC 2006-ig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EC1-523C-45A9-9523-AB2961ED3737}" type="slidenum">
              <a:t>7</a:t>
            </a:fld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IKT infrastruktúra kialakítása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Mobil, digitális prezentációs eszköz (zsúrkocsi)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graphicFrame>
        <p:nvGraphicFramePr>
          <p:cNvPr id="110" name="ShockwaveFlash1"/>
          <p:cNvGraphicFramePr/>
          <p:nvPr/>
        </p:nvGraphicFramePr>
        <p:xfrm>
          <a:off x="2484360" y="2492280"/>
          <a:ext cx="453564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453564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2B4-D9A5-49A4-939F-AEBA7BE42440}" type="slidenum">
              <a:t>8</a:t>
            </a:fld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790200"/>
            <a:ext cx="653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f5b"/>
                </a:solidFill>
                <a:latin typeface="Arial"/>
              </a:rPr>
              <a:t>Pedagógus továbbképzés</a:t>
            </a:r>
            <a:endParaRPr b="0" lang="en-US" sz="36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81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f5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Tanár-továbbképzés és eszközvásárlási támogatás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2004 tavasz: 10 000 pedagógus IKT alapú továbbképzése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2004 – 2006: 40 000 pedagógus kompetencia  központú IKT továbbképzése eszközvásárlási támogatással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1f5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f5b"/>
                </a:solidFill>
                <a:latin typeface="Arial"/>
              </a:rPr>
              <a:t>Sulinet Expressz adókedvezmény</a:t>
            </a:r>
            <a:endParaRPr b="0" lang="en-US" sz="2800" spc="-1" strike="noStrike">
              <a:solidFill>
                <a:srgbClr val="081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om.h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C4D-F182-4EC4-B35E-773A9DB8E027}" type="slidenum">
              <a:t>9</a:t>
            </a:fld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8:31:03Z</dcterms:created>
  <dc:creator>KeViN</dc:creator>
  <dc:description/>
  <dc:language>en-US</dc:language>
  <cp:lastModifiedBy>Bartal Tamás András</cp:lastModifiedBy>
  <dcterms:modified xsi:type="dcterms:W3CDTF">2004-10-15T08:34:27Z</dcterms:modified>
  <cp:revision>245</cp:revision>
  <dc:subject/>
  <dc:title>Slide 1</dc:title>
</cp:coreProperties>
</file>